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7.jpeg" ContentType="image/jpeg"/>
  <Override PartName="/ppt/media/image4.pct" ContentType="image/x-pict"/>
  <Override PartName="/ppt/media/image5.jpeg" ContentType="image/jpeg"/>
  <Override PartName="/ppt/media/image10.jpeg" ContentType="image/jpeg"/>
  <Override PartName="/ppt/media/image6.pct" ContentType="image/x-pict"/>
  <Override PartName="/ppt/media/image11.pct" ContentType="image/x-pict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EE8-68CE-4237-B595-EEE260C4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764-4035-4315-A65B-B9D17B22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E1C-B507-4274-A28B-9A72FCA5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135-DB2D-4887-B110-7F6BDED3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A19-7D09-4C5B-B67E-F759D98A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A78-4844-406F-BC5A-73C03AD7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C3A-D494-4D97-9642-E582F163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013-7B60-4F9C-BC1E-A2D58FA1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DC7-F33E-4397-950D-55C601F1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9FD-4959-4EBA-B0FB-AC7BDA58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347-63FC-4DF4-B18A-2913EEF0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666-B00F-48AA-8620-EBCCA6A2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E60A-5CE3-4FBB-878D-FCB12EFAB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3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3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3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3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35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3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236484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3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109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0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6680" y="1828800"/>
            <a:ext cx="76201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- the first time within 48 hours -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9" dur="1" fill="hold"/>
                                  <p:tgtEl>
                                    <p:spTgt spid="3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</a:t>
            </a:r>
            <a:r>
              <a:rPr b="1" sz="3000" spc="-1" strike="noStrike">
                <a:solidFill>
                  <a:srgbClr val="660066"/>
                </a:solidFill>
                <a:latin typeface="Arial"/>
              </a:rPr>
              <a:t>study group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3" dur="1" fill="hold"/>
                                  <p:tgtEl>
                                    <p:spTgt spid="3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8068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62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2 to 3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8600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2896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31480" y="152280"/>
            <a:ext cx="7796880" cy="6420240"/>
            <a:chOff x="1131480" y="152280"/>
            <a:chExt cx="7796880" cy="6420240"/>
          </a:xfrm>
        </p:grpSpPr>
        <p:pic>
          <p:nvPicPr>
            <p:cNvPr id="131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21032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888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328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1104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068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140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1104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1068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176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04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068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068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032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36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776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70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812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7196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0696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884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484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77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4668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4956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4920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4596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56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45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4740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776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9784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74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668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668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8016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1588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4560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560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3148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5004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3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19112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/>
          <p:nvPr/>
        </p:nvSpPr>
        <p:spPr>
          <a:xfrm>
            <a:off x="9176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Saddleback High</cp:lastModifiedBy>
  <cp:lastPrinted>2001-08-14T21:30:16Z</cp:lastPrinted>
  <dcterms:modified xsi:type="dcterms:W3CDTF">2009-06-08T13:58:07Z</dcterms:modified>
  <cp:revision>150</cp:revision>
  <dc:subject/>
  <dc:title>PowerPoint Presentation</dc:title>
</cp:coreProperties>
</file>